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EC4D-A431-4BE2-83A4-467D404D2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8352-783A-4CAD-998A-C101A24F7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81D9-CF57-4A92-BABD-FDA85A36B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6E55-03CA-47B8-822A-7EA85A51A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1CCC-C9D5-4C47-95B3-77B02E3D17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7B6F-A7EC-48E4-B179-992F5510EF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6FFA-39F0-4713-A52A-21369F52B2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5D5B-F79C-4608-A69F-27E5A13081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6D54-A39E-468D-B5F3-420262778E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65AD-1A5F-4948-98AF-3B4EB7B302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752C-9B1C-4DF8-BFEB-1BDD02CE8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D415-764E-4A22-8D50-F8B845852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C996-F804-4A7F-A862-FD04F3266F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5CE5-A15C-4964-A59B-5179CCD37E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1503-549D-4FC1-A52A-A675B22880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2D8F-001E-4E98-BE33-942EFD61FE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8A53-899D-41C3-A108-4E62E30D8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120F-4CFF-494A-97CF-E7F3FE0AA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4B18-7E85-4C76-8343-82E4C3CF7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18E4-CD6D-48E7-B6A2-CEF661B05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3960" y="9144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5019-87B7-4D5B-8025-33C4C487C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E8C0-2A1E-4216-830F-6FBBA483E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31A3-FC26-4344-90B4-E922841B2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357E-58A0-40C2-A544-95EA34C6E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6520" y="62485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D43-DB25-48C0-9174-47212AE6B3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84680" y="62485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7FCA-CA4D-4B6B-BBA7-F11EFF4936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6415.wikispaces.com/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yourdon.com/strucanalysis/wiki/index.php?title=Introduction" TargetMode="External"/><Relationship Id="rId4" Type="http://schemas.openxmlformats.org/officeDocument/2006/relationships/hyperlink" Target="http://www.gliffy.com/" TargetMode="External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095880" cy="34034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82280" y="4076640"/>
            <a:ext cx="586116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-D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 fontScale="99000"/>
          </a:bodyPr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23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072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Pages t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96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AD Wiki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May 20th 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2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ams of at least 5, no more then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ject requiremen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ef Description of a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Narrative of a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&amp; A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Flow Diagrams (context, level-0, and level-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8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ed via Wik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cess will come from Process Classification Frame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3932-21C8-42C1-89B9-4D428AD9FDB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38480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cg641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Tuesda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4:00-5:45;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: BA1 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4th 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ystems Analysis and Design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and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Data Models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2 (XBRL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 Model (Group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6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(Wiki)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743200"/>
            <a:ext cx="3848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expected to prepare models of business processes, 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low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L and XBRL-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ornik</dc:creator>
  <dc:description/>
  <dc:language>en-US</dc:language>
  <cp:lastModifiedBy/>
  <cp:revision>0</cp:revision>
  <dc:subject/>
  <dc:title>ACG 5405 Intro</dc:title>
</cp:coreProperties>
</file>